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0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92F-CC6A-488F-9600-DD3F72AA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744-F1B1-4743-88B4-5FFAF81D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490-C572-427F-A808-EE8CF27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090-E063-4AF7-82D0-3F80080F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7BB-3AE0-4FC2-9734-2CAAD73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4F3-9311-4A02-B14B-3A06A1A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755-3F99-41BB-8F23-1453BE0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254-B847-43E1-B4FA-3576845A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B8E-9400-4581-8017-C145770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A59-A07D-4C9C-96F0-C5CF131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171-BF58-4941-B326-7A0A1B6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275-CCF1-408E-9014-A725820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3d5"/>
            </a:gs>
            <a:gs pos="50000">
              <a:srgbClr val="d9edef"/>
            </a:gs>
            <a:gs pos="100000">
              <a:srgbClr val="c1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CEA-B345-4E27-BD37-4C1ECA7A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8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ОРЕМЕЋАЈИ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СТВАРАЊ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3124080"/>
            <a:ext cx="78483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914400" y="1752480"/>
            <a:ext cx="7620120" cy="1371600"/>
          </a:xfrm>
          <a:prstGeom prst="flowChartTerminator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лек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токс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о помоћни елиминациони пут код обољења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ремични стома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улцерозни или неулцеро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стаје због гомилања азотних продуката у крви (300мг/100м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remicni stomatit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2422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89" name="Picture 7" descr="uremicni stomatit"/>
          <p:cNvPicPr/>
          <p:nvPr/>
        </p:nvPicPr>
        <p:blipFill>
          <a:blip r:embed="rId2"/>
          <a:srcRect l="0" t="0" r="0" b="17897"/>
          <a:stretch/>
        </p:blipFill>
        <p:spPr>
          <a:xfrm>
            <a:off x="609480" y="4800600"/>
            <a:ext cx="2743200" cy="19033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0" name="Picture 8" descr="Uremic stomatitis, white hyperkeratotic lesions mimic hairy leukoplakia on"/>
          <p:cNvPicPr/>
          <p:nvPr/>
        </p:nvPicPr>
        <p:blipFill>
          <a:blip r:embed="rId3"/>
          <a:stretch/>
        </p:blipFill>
        <p:spPr>
          <a:xfrm>
            <a:off x="6008760" y="1828800"/>
            <a:ext cx="2830320" cy="1905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оремећаји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стварањ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иврем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кутни и хронични сијалоаденити и сијалолитиј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след губитка течности (крварење, пролив, повраћање, повишена 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кратко узимање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akterijski sialoadenit"/>
          <p:cNvPicPr/>
          <p:nvPr/>
        </p:nvPicPr>
        <p:blipFill>
          <a:blip r:embed="rId1"/>
          <a:stretch/>
        </p:blipFill>
        <p:spPr>
          <a:xfrm>
            <a:off x="304920" y="5257800"/>
            <a:ext cx="167616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8" name="Picture 7" descr="kalkulus u submandibularnoj zlezdi i otok"/>
          <p:cNvPicPr/>
          <p:nvPr/>
        </p:nvPicPr>
        <p:blipFill>
          <a:blip r:embed="rId2"/>
          <a:stretch/>
        </p:blipFill>
        <p:spPr>
          <a:xfrm>
            <a:off x="2209680" y="5181480"/>
            <a:ext cx="2057400" cy="1470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9" name="Picture 8" descr="med_head"/>
          <p:cNvPicPr/>
          <p:nvPr/>
        </p:nvPicPr>
        <p:blipFill>
          <a:blip r:embed="rId3"/>
          <a:stretch/>
        </p:blipFill>
        <p:spPr>
          <a:xfrm>
            <a:off x="5029200" y="1905120"/>
            <a:ext cx="3333600" cy="2066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0" name="Picture 9" descr="kompoziti suvoca"/>
          <p:cNvPicPr/>
          <p:nvPr/>
        </p:nvPicPr>
        <p:blipFill>
          <a:blip r:embed="rId4"/>
          <a:srcRect l="0" t="0" r="0" b="20706"/>
          <a:stretch/>
        </p:blipFill>
        <p:spPr>
          <a:xfrm>
            <a:off x="5334120" y="4419720"/>
            <a:ext cx="3200400" cy="2208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Трај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трофиј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рач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ефицит витамина и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исање на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екомерно 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истемска обољења (анемије, аутоимуна обољ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докрини 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еуролош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бољењ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изиолошке промене (старење,мено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фесионал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тско збрињ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зимање лекова (преко 400 лек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52280" y="1523880"/>
            <a:ext cx="876312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erostomia-2"/>
          <p:cNvPicPr/>
          <p:nvPr/>
        </p:nvPicPr>
        <p:blipFill>
          <a:blip r:embed="rId1"/>
          <a:stretch/>
        </p:blipFill>
        <p:spPr>
          <a:xfrm>
            <a:off x="6019920" y="4267080"/>
            <a:ext cx="2971800" cy="2225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5" name="Picture 6" descr="kserostomija"/>
          <p:cNvPicPr/>
          <p:nvPr/>
        </p:nvPicPr>
        <p:blipFill>
          <a:blip r:embed="rId2"/>
          <a:stretch/>
        </p:blipFill>
        <p:spPr>
          <a:xfrm>
            <a:off x="4419720" y="1828800"/>
            <a:ext cx="4114800" cy="15955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п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ложе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кривач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лада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а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ут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хр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ош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осталој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лузокож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ч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лузо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етљи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ра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да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екундар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ksfolijativni 3"/>
          <p:cNvPicPr/>
          <p:nvPr/>
        </p:nvPicPr>
        <p:blipFill>
          <a:blip r:embed="rId1"/>
          <a:stretch/>
        </p:blipFill>
        <p:spPr>
          <a:xfrm>
            <a:off x="3809880" y="1905120"/>
            <a:ext cx="233064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0" name="Picture 7" descr="hipertrofija 2"/>
          <p:cNvPicPr/>
          <p:nvPr/>
        </p:nvPicPr>
        <p:blipFill>
          <a:blip r:embed="rId2"/>
          <a:stretch/>
        </p:blipFill>
        <p:spPr>
          <a:xfrm>
            <a:off x="6553080" y="2438280"/>
            <a:ext cx="2057400" cy="2036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1" name="Picture 8" descr="impakcija hrane 2"/>
          <p:cNvPicPr/>
          <p:nvPr/>
        </p:nvPicPr>
        <p:blipFill>
          <a:blip r:embed="rId3"/>
          <a:stretch/>
        </p:blipFill>
        <p:spPr>
          <a:xfrm>
            <a:off x="5791320" y="4724280"/>
            <a:ext cx="2514600" cy="17733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питив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sideropenicna anemija 2"/>
          <p:cNvPicPr/>
          <p:nvPr/>
        </p:nvPicPr>
        <p:blipFill>
          <a:blip r:embed="rId1"/>
          <a:srcRect l="5853" t="0" r="0" b="0"/>
          <a:stretch/>
        </p:blipFill>
        <p:spPr>
          <a:xfrm>
            <a:off x="1219320" y="3505320"/>
            <a:ext cx="2450880" cy="2724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terapija suvoce"/>
          <p:cNvPicPr/>
          <p:nvPr/>
        </p:nvPicPr>
        <p:blipFill>
          <a:blip r:embed="rId1"/>
          <a:stretch/>
        </p:blipFill>
        <p:spPr>
          <a:xfrm>
            <a:off x="5867280" y="3962520"/>
            <a:ext cx="2705400" cy="2705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ица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гле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мири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розив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лцерозни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ефици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ол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уролош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есн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ц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итију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парат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и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14600" y="1600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физиолошки фено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14600" y="2286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имптом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286000" y="1828440"/>
            <a:ext cx="30492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286000" y="21337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gularni heilit sa kandidom"/>
          <p:cNvPicPr/>
          <p:nvPr/>
        </p:nvPicPr>
        <p:blipFill>
          <a:blip r:embed="rId1"/>
          <a:stretch/>
        </p:blipFill>
        <p:spPr>
          <a:xfrm>
            <a:off x="5562720" y="4724280"/>
            <a:ext cx="24382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29" name="Picture 11" descr="tongue-saliva"/>
          <p:cNvPicPr/>
          <p:nvPr/>
        </p:nvPicPr>
        <p:blipFill>
          <a:blip r:embed="rId2"/>
          <a:stretch/>
        </p:blipFill>
        <p:spPr>
          <a:xfrm>
            <a:off x="5486400" y="1828800"/>
            <a:ext cx="2743200" cy="2593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у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глов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гулар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го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тропи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ф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tijalizmus"/>
          <p:cNvPicPr/>
          <p:nvPr/>
        </p:nvPicPr>
        <p:blipFill>
          <a:blip r:embed="rId1"/>
          <a:stretch/>
        </p:blipFill>
        <p:spPr>
          <a:xfrm>
            <a:off x="2209680" y="5105520"/>
            <a:ext cx="1733760" cy="1438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4" name="Picture 6" descr="saliva4"/>
          <p:cNvPicPr/>
          <p:nvPr/>
        </p:nvPicPr>
        <p:blipFill>
          <a:blip r:embed="rId2"/>
          <a:stretch/>
        </p:blipFill>
        <p:spPr>
          <a:xfrm>
            <a:off x="4343400" y="4724280"/>
            <a:ext cx="1828800" cy="182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5" name="Picture 7" descr="Saliva6"/>
          <p:cNvPicPr/>
          <p:nvPr/>
        </p:nvPicPr>
        <p:blipFill>
          <a:blip r:embed="rId3"/>
          <a:stretch/>
        </p:blipFill>
        <p:spPr>
          <a:xfrm>
            <a:off x="5791320" y="1676520"/>
            <a:ext cx="2819160" cy="2514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6" name="Picture 8" descr="saliva"/>
          <p:cNvPicPr/>
          <p:nvPr/>
        </p:nvPicPr>
        <p:blipFill>
          <a:blip r:embed="rId4"/>
          <a:stretch/>
        </p:blipFill>
        <p:spPr>
          <a:xfrm>
            <a:off x="6553080" y="4343400"/>
            <a:ext cx="2086200" cy="2190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1676520"/>
            <a:ext cx="88390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ронична, деструктивна аутоимуна егзокри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чешће обољевају ж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авља се у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ве форм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прим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р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 промене на сузним и пљувачним жлезд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секунд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иде са колагеним обољењима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(реуматоидни артрит - РА, системски лу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ритематодес - СЛЕ, васкул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штећења бубрега, ит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Sjegen sindrom 2"/>
          <p:cNvPicPr/>
          <p:nvPr/>
        </p:nvPicPr>
        <p:blipFill>
          <a:blip r:embed="rId1"/>
          <a:srcRect l="17776" t="11738" r="9705" b="22212"/>
          <a:stretch/>
        </p:blipFill>
        <p:spPr>
          <a:xfrm>
            <a:off x="7010280" y="1752480"/>
            <a:ext cx="1901880" cy="1338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41" name="Picture 8" descr="sjogrensyndrome"/>
          <p:cNvPicPr/>
          <p:nvPr/>
        </p:nvPicPr>
        <p:blipFill>
          <a:blip r:embed="rId2"/>
          <a:stretch/>
        </p:blipFill>
        <p:spPr>
          <a:xfrm>
            <a:off x="3679920" y="5181480"/>
            <a:ext cx="2128680" cy="14875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2" name="Picture 9" descr="Sjogren's-Syndrome"/>
          <p:cNvPicPr/>
          <p:nvPr/>
        </p:nvPicPr>
        <p:blipFill>
          <a:blip r:embed="rId3"/>
          <a:stretch/>
        </p:blipFill>
        <p:spPr>
          <a:xfrm>
            <a:off x="6324480" y="4687920"/>
            <a:ext cx="2301840" cy="1941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Састав и својств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Функциј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ремећаји у стварању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ögren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057400" y="152280"/>
            <a:ext cx="5105520" cy="1295640"/>
          </a:xfrm>
          <a:prstGeom prst="ellips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генет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лош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нтрол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пољ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М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суал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к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ти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им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унд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egren"/>
          <p:cNvPicPr/>
          <p:nvPr/>
        </p:nvPicPr>
        <p:blipFill>
          <a:blip r:embed="rId1"/>
          <a:stretch/>
        </p:blipFill>
        <p:spPr>
          <a:xfrm>
            <a:off x="5867280" y="1676520"/>
            <a:ext cx="2994120" cy="1752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7" name="Picture 6" descr="sjegren"/>
          <p:cNvPicPr/>
          <p:nvPr/>
        </p:nvPicPr>
        <p:blipFill>
          <a:blip r:embed="rId2"/>
          <a:stretch/>
        </p:blipFill>
        <p:spPr>
          <a:xfrm>
            <a:off x="457200" y="4800600"/>
            <a:ext cx="2819520" cy="1878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8" name="Picture 7" descr="SjogrensSyndrome1"/>
          <p:cNvPicPr/>
          <p:nvPr/>
        </p:nvPicPr>
        <p:blipFill>
          <a:blip r:embed="rId3"/>
          <a:stretch/>
        </p:blipFill>
        <p:spPr>
          <a:xfrm>
            <a:off x="3733920" y="4800600"/>
            <a:ext cx="4800600" cy="181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манифестуј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варијант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постепен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нагл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већ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з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имфаден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пш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убре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0880" y="6095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увоћа у носу и фаринк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jegren 1"/>
          <p:cNvPicPr/>
          <p:nvPr/>
        </p:nvPicPr>
        <p:blipFill>
          <a:blip r:embed="rId1"/>
          <a:stretch/>
        </p:blipFill>
        <p:spPr>
          <a:xfrm>
            <a:off x="3124080" y="5334120"/>
            <a:ext cx="2113200" cy="134136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154" name="Picture 8" descr="Sjegren 7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28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5" name="Picture 9" descr="Sjegren 5"/>
          <p:cNvPicPr/>
          <p:nvPr/>
        </p:nvPicPr>
        <p:blipFill>
          <a:blip r:embed="rId3"/>
          <a:stretch/>
        </p:blipFill>
        <p:spPr>
          <a:xfrm>
            <a:off x="5867280" y="1981080"/>
            <a:ext cx="2286000" cy="2283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6" name="Picture 10" descr="sjogrens gland"/>
          <p:cNvPicPr/>
          <p:nvPr/>
        </p:nvPicPr>
        <p:blipFill>
          <a:blip r:embed="rId4"/>
          <a:stretch/>
        </p:blipFill>
        <p:spPr>
          <a:xfrm>
            <a:off x="5486400" y="4419720"/>
            <a:ext cx="2895480" cy="2174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тње у оч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ћај песка и пр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тљивост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тње 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њено лучење с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ални симпто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ањено лучење пљув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формирање залог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гу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ремећај у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често се влаже 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јава 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мене на јези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глад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сјај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об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присуство кандид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_S_NDROME_DE_SJ_GREN"/>
          <p:cNvPicPr/>
          <p:nvPr/>
        </p:nvPicPr>
        <p:blipFill>
          <a:blip r:embed="rId1"/>
          <a:stretch/>
        </p:blipFill>
        <p:spPr>
          <a:xfrm>
            <a:off x="5029200" y="1676520"/>
            <a:ext cx="3048120" cy="21636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61" name="Picture 6" descr="xerostomia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523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aynand-ov </a:t>
            </a:r>
            <a:r>
              <a:rPr b="1" lang="sr-RS" sz="2000" spc="-1" strike="noStrike">
                <a:solidFill>
                  <a:srgbClr val="333399"/>
                </a:solidFill>
                <a:latin typeface="Arial"/>
              </a:rPr>
              <a:t>фено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реоид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епат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цироз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кутни панкре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мене на ЦНС-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120" y="22860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ук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+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уматоидн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ијал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биопсиј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лих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.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гнет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зонанц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МР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0720" y="1744560"/>
            <a:ext cx="716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676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кундарни СС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аћен је и општ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Sjegren 8"/>
          <p:cNvPicPr/>
          <p:nvPr/>
        </p:nvPicPr>
        <p:blipFill>
          <a:blip r:embed="rId1"/>
          <a:stretch/>
        </p:blipFill>
        <p:spPr>
          <a:xfrm>
            <a:off x="3429000" y="2971800"/>
            <a:ext cx="2109960" cy="12398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69" name="Picture 9" descr="Sjegren 2"/>
          <p:cNvPicPr/>
          <p:nvPr/>
        </p:nvPicPr>
        <p:blipFill>
          <a:blip r:embed="rId2"/>
          <a:stretch/>
        </p:blipFill>
        <p:spPr>
          <a:xfrm>
            <a:off x="2895480" y="4648320"/>
            <a:ext cx="2438640" cy="1589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0" name="Picture 10" descr="raynauds_phenom"/>
          <p:cNvPicPr/>
          <p:nvPr/>
        </p:nvPicPr>
        <p:blipFill>
          <a:blip r:embed="rId3"/>
          <a:stretch/>
        </p:blipFill>
        <p:spPr>
          <a:xfrm>
            <a:off x="228600" y="4495680"/>
            <a:ext cx="2514600" cy="21639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ФЕРЕНЦИЈАЛН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Xeros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стемска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Miculicz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јал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мптомат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стероид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супрес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уз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бацива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Sjegren 6"/>
          <p:cNvPicPr/>
          <p:nvPr/>
        </p:nvPicPr>
        <p:blipFill>
          <a:blip r:embed="rId1"/>
          <a:stretch/>
        </p:blipFill>
        <p:spPr>
          <a:xfrm>
            <a:off x="3048120" y="1905120"/>
            <a:ext cx="1446120" cy="1523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6" name="Picture 8" descr="Sjegren 7"/>
          <p:cNvPicPr/>
          <p:nvPr/>
        </p:nvPicPr>
        <p:blipFill>
          <a:blip r:embed="rId2"/>
          <a:stretch/>
        </p:blipFill>
        <p:spPr>
          <a:xfrm>
            <a:off x="7086600" y="1776240"/>
            <a:ext cx="1600200" cy="933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7" name="Picture 9" descr="Sjegren sindrom 1"/>
          <p:cNvPicPr/>
          <p:nvPr/>
        </p:nvPicPr>
        <p:blipFill>
          <a:blip r:embed="rId3"/>
          <a:stretch/>
        </p:blipFill>
        <p:spPr>
          <a:xfrm>
            <a:off x="1981080" y="4572000"/>
            <a:ext cx="2133720" cy="20509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сценденти сијалоаден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В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е инфекције (Т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стич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поз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абораторијс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датн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4724280" y="3290760"/>
            <a:ext cx="333072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нила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ронични 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нигни мезенхимал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хемангиом, фиброзни хистоцитом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4687920" y="1752480"/>
            <a:ext cx="246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илатера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ИВ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артонов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2438280" y="4651200"/>
            <a:ext cx="22291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з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зни ч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жење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бнормалности у грађи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058760"/>
            <a:ext cx="28576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724280" y="3924360"/>
            <a:ext cx="354348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Једнострано увећање непосредно или у току об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јчешће изводни канал субмандибуларне п.ж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ндген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графија (+Ц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952880" y="44496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114800" y="3441600"/>
            <a:ext cx="5029200" cy="335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196920" y="1523880"/>
            <a:ext cx="50227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и пара велик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ароти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лингва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мандибул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ројних малих пљувачних жлезди (700-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18288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мешавина секрета пљувачних жлез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4952880"/>
            <a:ext cx="388620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пецифична тежина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1003-1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Х = 6,2-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ању алкална, ноћу ки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исела после јела и 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GLANDULAS SALIVARES"/>
          <p:cNvPicPr/>
          <p:nvPr/>
        </p:nvPicPr>
        <p:blipFill>
          <a:blip r:embed="rId1"/>
          <a:stretch/>
        </p:blipFill>
        <p:spPr>
          <a:xfrm>
            <a:off x="4343400" y="1752480"/>
            <a:ext cx="44974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и уз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– опструкција или руптура канала мале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4800600" y="1523880"/>
            <a:ext cx="4114800" cy="274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6535800" y="4402080"/>
            <a:ext cx="23796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, 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2209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кстравазационе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ретенционог типа (ран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вијалне (површинске)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цијалне – спонт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5886360" y="4419720"/>
            <a:ext cx="3029040" cy="221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2"/>
          <a:stretch/>
        </p:blipFill>
        <p:spPr>
          <a:xfrm>
            <a:off x="5638680" y="1630440"/>
            <a:ext cx="3283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ијалоз</a:t>
            </a: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a</a:t>
            </a: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Sialoade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шкарци чеш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срегулација аутономалне инервације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алкохолизам, ендок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ести, нутритив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ремећаји, леков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ротидна најчешће – симетр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еке и бол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ксеростомиј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ризм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емп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иохемиј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специфичн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338720" y="28195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Етиолог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 радиолошкке терапије главе и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х гастроинтестиналног хируршког зах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ливарне аном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но осетљив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Црвена 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 експресију- гнојан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имфаденопатија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876920" y="2819520"/>
            <a:ext cx="426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Б према антибио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.дренажа код флукту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имулација сали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онич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рији 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ле акут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кал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4876920" y="2819520"/>
            <a:ext cx="426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онично увећана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лпаторно неосетљ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системских зн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Рендге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е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ирус мум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ђ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xacki, EC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V, CMV, 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5486400" y="2133720"/>
            <a:ext cx="2857680" cy="165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4419720" y="4373640"/>
            <a:ext cx="39607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4419720" y="213372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кубација 2-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жа неиз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озница, малакса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Екстрасаливарни знаци: инфламација тестиса или оваријума, панкреатитис, менингитис, менингоенцефалитис, губитак сл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еролошка или вирусолош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ерап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симптом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евенц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имунизација д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609480" y="3733920"/>
            <a:ext cx="369432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тивна обољења пљувачних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jegren 2"/>
          <p:cNvPicPr/>
          <p:nvPr/>
        </p:nvPicPr>
        <p:blipFill>
          <a:blip r:embed="rId1"/>
          <a:stretch/>
        </p:blipFill>
        <p:spPr>
          <a:xfrm>
            <a:off x="380880" y="3441600"/>
            <a:ext cx="4343400" cy="283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248" name="Picture 7" descr="Sjegren 6"/>
          <p:cNvPicPr/>
          <p:nvPr/>
        </p:nvPicPr>
        <p:blipFill>
          <a:blip r:embed="rId2"/>
          <a:stretch/>
        </p:blipFill>
        <p:spPr>
          <a:xfrm>
            <a:off x="5410080" y="1727280"/>
            <a:ext cx="2970360" cy="3128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ормал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а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лич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енуш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с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тужног мир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з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личи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500-600 мл, 1250 мл и ви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авис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интензитета и трајања стим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валитета 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оба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одина ста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пштег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alivary_bioscience_drop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aliva collection Dr"/>
          <p:cNvPicPr/>
          <p:nvPr/>
        </p:nvPicPr>
        <p:blipFill>
          <a:blip r:embed="rId2"/>
          <a:stretch/>
        </p:blipFill>
        <p:spPr>
          <a:xfrm>
            <a:off x="5827680" y="4095720"/>
            <a:ext cx="2249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гљени хид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з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т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аст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99% вода и 1% органски и не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stis glandulae salivariae labii inferioris"/>
          <p:cNvPicPr/>
          <p:nvPr/>
        </p:nvPicPr>
        <p:blipFill>
          <a:blip r:embed="rId1"/>
          <a:srcRect l="0" t="20104" r="32500" b="0"/>
          <a:stretch/>
        </p:blipFill>
        <p:spPr>
          <a:xfrm>
            <a:off x="1143000" y="4800600"/>
            <a:ext cx="25876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7" name="Picture 8" descr="saliva_test_lrg"/>
          <p:cNvPicPr/>
          <p:nvPr/>
        </p:nvPicPr>
        <p:blipFill>
          <a:blip r:embed="rId2"/>
          <a:stretch/>
        </p:blipFill>
        <p:spPr>
          <a:xfrm>
            <a:off x="4114800" y="2666880"/>
            <a:ext cx="4648320" cy="3560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органски састој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ијум -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тријум -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цијум -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лоr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вожђе -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умпор -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гнезијум -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од -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ром -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ар -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луор - F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aliva_secretion_duct"/>
          <p:cNvPicPr/>
          <p:nvPr/>
        </p:nvPicPr>
        <p:blipFill>
          <a:blip r:embed="rId1"/>
          <a:stretch/>
        </p:blipFill>
        <p:spPr>
          <a:xfrm>
            <a:off x="380880" y="2133720"/>
            <a:ext cx="4573800" cy="3589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5334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Бактерицид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нтисептич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тална цирк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мена п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ирање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елиминација мик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астојци (муцин, лизоз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терицид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цин - преципитира микро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изозим - цепа компоненте бактеријског з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псонини - олакш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ансферин - везује гвож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уклеазе - разарају нуклеинске киселине бактерија и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хибини - разлажу опну бак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еукоцити - омогућ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А - секреторни имуноглоб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580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Baktericidna u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liva_top"/>
          <p:cNvPicPr/>
          <p:nvPr/>
        </p:nvPicPr>
        <p:blipFill>
          <a:blip r:embed="rId1"/>
          <a:stretch/>
        </p:blipFill>
        <p:spPr>
          <a:xfrm>
            <a:off x="685800" y="4191120"/>
            <a:ext cx="3706920" cy="2322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00200"/>
            <a:ext cx="419112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стварање бол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гут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перцепцију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ucha-sed"/>
          <p:cNvPicPr/>
          <p:nvPr/>
        </p:nvPicPr>
        <p:blipFill>
          <a:blip r:embed="rId1"/>
          <a:stretch/>
        </p:blipFill>
        <p:spPr>
          <a:xfrm>
            <a:off x="457200" y="3505320"/>
            <a:ext cx="4876920" cy="325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84" name="Picture 6" descr="Saliva-Shows-Stress-Levels-on-Kids-2"/>
          <p:cNvPicPr/>
          <p:nvPr/>
        </p:nvPicPr>
        <p:blipFill>
          <a:blip r:embed="rId2"/>
          <a:stretch/>
        </p:blipFill>
        <p:spPr>
          <a:xfrm>
            <a:off x="5715000" y="1905120"/>
            <a:ext cx="2743200" cy="2743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53:44Z</dcterms:created>
  <dc:creator>Pejca</dc:creator>
  <dc:description/>
  <dc:language>en-US</dc:language>
  <cp:lastModifiedBy>obradovic</cp:lastModifiedBy>
  <dcterms:modified xsi:type="dcterms:W3CDTF">2017-09-03T12:59:13Z</dcterms:modified>
  <cp:revision>80</cp:revision>
  <dc:subject/>
  <dc:title>Slide 1</dc:title>
</cp:coreProperties>
</file>