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0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D0B-830A-4B02-99CD-581E0A31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833-8800-4E2B-8491-014EA38D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958-08BA-492B-BAC4-49F1DF43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170-BD17-4229-B64B-67E705D4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67E-E6ED-4B6D-B28A-FAE6C0B6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748-E1A4-42D0-9174-94444C4C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680-A518-4385-8E42-7EBBFDE1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479-977E-4DF5-B37E-A670FCB6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B36-CEC8-42CF-AB90-109CD1AA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73A-BC40-4D5B-AE13-3C08C84A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98A-D12A-4CED-A241-E20594EE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74A-77BB-4537-8872-7405996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3d5"/>
            </a:gs>
            <a:gs pos="50000">
              <a:srgbClr val="d9edef"/>
            </a:gs>
            <a:gs pos="100000">
              <a:srgbClr val="c1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44C4-EC4D-45DC-9A73-233DADF0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80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ОРЕМЕЋАЈИ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У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СТВАРАЊУ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3124080"/>
            <a:ext cx="78483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914400" y="1752480"/>
            <a:ext cx="7620120" cy="1371600"/>
          </a:xfrm>
          <a:prstGeom prst="flowChartTerminator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3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Екскреторна у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лиминише лек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лиминише токс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о помоћни елиминациони пут код обољења бубре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ремични стомат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улцерозни или неулцеро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астаје због гомилања азотних продуката у крви (300мг/100м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uremicni stomatit"/>
          <p:cNvPicPr/>
          <p:nvPr/>
        </p:nvPicPr>
        <p:blipFill>
          <a:blip r:embed="rId1"/>
          <a:stretch/>
        </p:blipFill>
        <p:spPr>
          <a:xfrm>
            <a:off x="6019920" y="4267080"/>
            <a:ext cx="2819160" cy="2422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89" name="Picture 7" descr="uremicni stomatit"/>
          <p:cNvPicPr/>
          <p:nvPr/>
        </p:nvPicPr>
        <p:blipFill>
          <a:blip r:embed="rId2"/>
          <a:srcRect l="0" t="0" r="0" b="17897"/>
          <a:stretch/>
        </p:blipFill>
        <p:spPr>
          <a:xfrm>
            <a:off x="609480" y="4800600"/>
            <a:ext cx="2743200" cy="19033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90" name="Picture 8" descr="Uremic stomatitis, white hyperkeratotic lesions mimic hairy leukoplakia on"/>
          <p:cNvPicPr/>
          <p:nvPr/>
        </p:nvPicPr>
        <p:blipFill>
          <a:blip r:embed="rId3"/>
          <a:stretch/>
        </p:blipFill>
        <p:spPr>
          <a:xfrm>
            <a:off x="6008760" y="1828800"/>
            <a:ext cx="2830320" cy="19051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Поремећаји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у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стварању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9152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лучењ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љувачк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Приврем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т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кутни и хронични сијалоаденити и сијалолитиј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след губитка течности (крварење, пролив, повраћање, повишена т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кратко узимање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bakterijski sialoadenit"/>
          <p:cNvPicPr/>
          <p:nvPr/>
        </p:nvPicPr>
        <p:blipFill>
          <a:blip r:embed="rId1"/>
          <a:stretch/>
        </p:blipFill>
        <p:spPr>
          <a:xfrm>
            <a:off x="304920" y="5257800"/>
            <a:ext cx="1676160" cy="139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8" name="Picture 7" descr="kalkulus u submandibularnoj zlezdi i otok"/>
          <p:cNvPicPr/>
          <p:nvPr/>
        </p:nvPicPr>
        <p:blipFill>
          <a:blip r:embed="rId2"/>
          <a:stretch/>
        </p:blipFill>
        <p:spPr>
          <a:xfrm>
            <a:off x="2209680" y="5181480"/>
            <a:ext cx="2057400" cy="1470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9" name="Picture 8" descr="med_head"/>
          <p:cNvPicPr/>
          <p:nvPr/>
        </p:nvPicPr>
        <p:blipFill>
          <a:blip r:embed="rId3"/>
          <a:stretch/>
        </p:blipFill>
        <p:spPr>
          <a:xfrm>
            <a:off x="5029200" y="1905120"/>
            <a:ext cx="3333600" cy="2066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00" name="Picture 9" descr="kompoziti suvoca"/>
          <p:cNvPicPr/>
          <p:nvPr/>
        </p:nvPicPr>
        <p:blipFill>
          <a:blip r:embed="rId4"/>
          <a:srcRect l="0" t="0" r="0" b="20706"/>
          <a:stretch/>
        </p:blipFill>
        <p:spPr>
          <a:xfrm>
            <a:off x="5334120" y="4419720"/>
            <a:ext cx="3200400" cy="2208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Трај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трофија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зрачн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ефицит витамина и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исање на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екомерно пуш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истемска обољења (анемије, аутоимуна обоље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ндокрини поремећа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еуролош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бољења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физиолошке промене (старење,менопау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фесионал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тетско збрињ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тр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зимање лекова (преко 400 лек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52280" y="1523880"/>
            <a:ext cx="876312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Xerostomia-2"/>
          <p:cNvPicPr/>
          <p:nvPr/>
        </p:nvPicPr>
        <p:blipFill>
          <a:blip r:embed="rId1"/>
          <a:stretch/>
        </p:blipFill>
        <p:spPr>
          <a:xfrm>
            <a:off x="6019920" y="4267080"/>
            <a:ext cx="2971800" cy="2225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05" name="Picture 6" descr="kserostomija"/>
          <p:cNvPicPr/>
          <p:nvPr/>
        </p:nvPicPr>
        <p:blipFill>
          <a:blip r:embed="rId2"/>
          <a:stretch/>
        </p:blipFill>
        <p:spPr>
          <a:xfrm>
            <a:off x="4419720" y="1828800"/>
            <a:ext cx="4114800" cy="15955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400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ус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јај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епи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бложен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је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кривач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јези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ладак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јајан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тежа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ут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схр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тежа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оше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о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осталој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слузокож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ч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лузо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сетљи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тра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зада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већ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ја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већ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ја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бољењ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арод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екундар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нф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eksfolijativni 3"/>
          <p:cNvPicPr/>
          <p:nvPr/>
        </p:nvPicPr>
        <p:blipFill>
          <a:blip r:embed="rId1"/>
          <a:stretch/>
        </p:blipFill>
        <p:spPr>
          <a:xfrm>
            <a:off x="3809880" y="1905120"/>
            <a:ext cx="2330640" cy="139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0" name="Picture 7" descr="hipertrofija 2"/>
          <p:cNvPicPr/>
          <p:nvPr/>
        </p:nvPicPr>
        <p:blipFill>
          <a:blip r:embed="rId2"/>
          <a:stretch/>
        </p:blipFill>
        <p:spPr>
          <a:xfrm>
            <a:off x="6553080" y="2438280"/>
            <a:ext cx="2057400" cy="2036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1" name="Picture 8" descr="impakcija hrane 2"/>
          <p:cNvPicPr/>
          <p:nvPr/>
        </p:nvPicPr>
        <p:blipFill>
          <a:blip r:embed="rId3"/>
          <a:stretch/>
        </p:blipFill>
        <p:spPr>
          <a:xfrm>
            <a:off x="5791320" y="4724280"/>
            <a:ext cx="2514600" cy="17733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намн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абораторијск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л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спитив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ни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6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66"/>
                </a:solidFill>
                <a:latin typeface="Arial"/>
              </a:rPr>
              <a:t>Општа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завис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д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етиолошког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снов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66"/>
                </a:solidFill>
                <a:latin typeface="Arial"/>
              </a:rPr>
              <a:t>Стоматолошка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анац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ародонтопат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обр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рал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хигиј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оме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оши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ви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зимање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алкох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пуше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клонити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зрок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дисања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тимулац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(Pilocarp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вештач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sideropenicna anemija 2"/>
          <p:cNvPicPr/>
          <p:nvPr/>
        </p:nvPicPr>
        <p:blipFill>
          <a:blip r:embed="rId1"/>
          <a:srcRect l="5853" t="0" r="0" b="0"/>
          <a:stretch/>
        </p:blipFill>
        <p:spPr>
          <a:xfrm>
            <a:off x="1219320" y="3505320"/>
            <a:ext cx="2450880" cy="27241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66"/>
                </a:solidFill>
                <a:latin typeface="Arial"/>
              </a:rPr>
              <a:t>Општа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вис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шког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снов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66"/>
                </a:solidFill>
                <a:latin typeface="Arial"/>
              </a:rPr>
              <a:t>Стоматолошка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нациј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обр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рал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оме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оших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ви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им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лкох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уш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клонит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рок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исањ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тимулациј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(Pilocarp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ешт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terapija suvoce"/>
          <p:cNvPicPr/>
          <p:nvPr/>
        </p:nvPicPr>
        <p:blipFill>
          <a:blip r:embed="rId1"/>
          <a:stretch/>
        </p:blipFill>
        <p:spPr>
          <a:xfrm>
            <a:off x="5867280" y="3962520"/>
            <a:ext cx="2705400" cy="2705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ЕТИОЛОГ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о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ицањ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гле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мири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бољењ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розивн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лцерозним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зи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ефицит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ол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еуролош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ремећа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ле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есн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арц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ков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итијум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епарат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жив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14600" y="1600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физиолошки фено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514600" y="2286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симптом обо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286000" y="1828440"/>
            <a:ext cx="30492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286000" y="21337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angularni heilit sa kandidom"/>
          <p:cNvPicPr/>
          <p:nvPr/>
        </p:nvPicPr>
        <p:blipFill>
          <a:blip r:embed="rId1"/>
          <a:stretch/>
        </p:blipFill>
        <p:spPr>
          <a:xfrm>
            <a:off x="5562720" y="4724280"/>
            <a:ext cx="2438280" cy="1886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29" name="Picture 11" descr="tongue-saliva"/>
          <p:cNvPicPr/>
          <p:nvPr/>
        </p:nvPicPr>
        <p:blipFill>
          <a:blip r:embed="rId2"/>
          <a:stretch/>
        </p:blipFill>
        <p:spPr>
          <a:xfrm>
            <a:off x="5486400" y="1828800"/>
            <a:ext cx="2743200" cy="2593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цур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глов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гулар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го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сновног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тропи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фед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808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tijalizmus"/>
          <p:cNvPicPr/>
          <p:nvPr/>
        </p:nvPicPr>
        <p:blipFill>
          <a:blip r:embed="rId1"/>
          <a:stretch/>
        </p:blipFill>
        <p:spPr>
          <a:xfrm>
            <a:off x="2209680" y="5105520"/>
            <a:ext cx="1733760" cy="14382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4" name="Picture 6" descr="saliva4"/>
          <p:cNvPicPr/>
          <p:nvPr/>
        </p:nvPicPr>
        <p:blipFill>
          <a:blip r:embed="rId2"/>
          <a:stretch/>
        </p:blipFill>
        <p:spPr>
          <a:xfrm>
            <a:off x="4343400" y="4724280"/>
            <a:ext cx="1828800" cy="1828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5" name="Picture 7" descr="Saliva6"/>
          <p:cNvPicPr/>
          <p:nvPr/>
        </p:nvPicPr>
        <p:blipFill>
          <a:blip r:embed="rId3"/>
          <a:stretch/>
        </p:blipFill>
        <p:spPr>
          <a:xfrm>
            <a:off x="5791320" y="1676520"/>
            <a:ext cx="2819160" cy="25146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6" name="Picture 8" descr="saliva"/>
          <p:cNvPicPr/>
          <p:nvPr/>
        </p:nvPicPr>
        <p:blipFill>
          <a:blip r:embed="rId4"/>
          <a:stretch/>
        </p:blipFill>
        <p:spPr>
          <a:xfrm>
            <a:off x="6553080" y="4343400"/>
            <a:ext cx="2086200" cy="21906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1676520"/>
            <a:ext cx="883908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ронична, деструктивна аутоимуна егзокрин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чешће обољевају ж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авља се у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ве форм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примарни облик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- ређ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 промене на сузним и пљувачним жлезд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секундарни облик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- иде са колагеним обољењима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(реуматоидни артрит - РА, системски лу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ритематодес - СЛЕ, васкул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штећења бубрега, ит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Sjegen sindrom 2"/>
          <p:cNvPicPr/>
          <p:nvPr/>
        </p:nvPicPr>
        <p:blipFill>
          <a:blip r:embed="rId1"/>
          <a:srcRect l="17776" t="11738" r="9705" b="22212"/>
          <a:stretch/>
        </p:blipFill>
        <p:spPr>
          <a:xfrm>
            <a:off x="7010280" y="1752480"/>
            <a:ext cx="1901880" cy="13384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41" name="Picture 8" descr="sjogrensyndrome"/>
          <p:cNvPicPr/>
          <p:nvPr/>
        </p:nvPicPr>
        <p:blipFill>
          <a:blip r:embed="rId2"/>
          <a:stretch/>
        </p:blipFill>
        <p:spPr>
          <a:xfrm>
            <a:off x="3679920" y="5181480"/>
            <a:ext cx="2128680" cy="14875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2" name="Picture 9" descr="Sjogren's-Syndrome"/>
          <p:cNvPicPr/>
          <p:nvPr/>
        </p:nvPicPr>
        <p:blipFill>
          <a:blip r:embed="rId3"/>
          <a:stretch/>
        </p:blipFill>
        <p:spPr>
          <a:xfrm>
            <a:off x="6324480" y="4687920"/>
            <a:ext cx="2301840" cy="19414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Састав и својства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Функција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оремећаји у стварању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ögren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2057400" y="152280"/>
            <a:ext cx="5105520" cy="1295640"/>
          </a:xfrm>
          <a:prstGeom prst="ellipse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000"/>
            </a:b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ЕТИОЛОГ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генетс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олош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онтрол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пољ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актор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ЦМВ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ексуал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ормо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ек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тител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отив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тел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них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имар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друже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ЛАБ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екундар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друже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ЛАБ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4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sjegren"/>
          <p:cNvPicPr/>
          <p:nvPr/>
        </p:nvPicPr>
        <p:blipFill>
          <a:blip r:embed="rId1"/>
          <a:stretch/>
        </p:blipFill>
        <p:spPr>
          <a:xfrm>
            <a:off x="5867280" y="1676520"/>
            <a:ext cx="2994120" cy="17524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7" name="Picture 6" descr="sjegren"/>
          <p:cNvPicPr/>
          <p:nvPr/>
        </p:nvPicPr>
        <p:blipFill>
          <a:blip r:embed="rId2"/>
          <a:stretch/>
        </p:blipFill>
        <p:spPr>
          <a:xfrm>
            <a:off x="457200" y="4800600"/>
            <a:ext cx="2819520" cy="18781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8" name="Picture 7" descr="SjogrensSyndrome1"/>
          <p:cNvPicPr/>
          <p:nvPr/>
        </p:nvPicPr>
        <p:blipFill>
          <a:blip r:embed="rId3"/>
          <a:stretch/>
        </p:blipFill>
        <p:spPr>
          <a:xfrm>
            <a:off x="3733920" y="4800600"/>
            <a:ext cx="4800600" cy="18111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5181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манифестуј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дв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варијант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постепен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разво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рал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ч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оћ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нагл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разво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оћ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ч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већ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з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ж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имфаденопат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пшт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ремећај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  (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убрег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80880" y="6095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увоћа у носу и фаринк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Sjegren 1"/>
          <p:cNvPicPr/>
          <p:nvPr/>
        </p:nvPicPr>
        <p:blipFill>
          <a:blip r:embed="rId1"/>
          <a:stretch/>
        </p:blipFill>
        <p:spPr>
          <a:xfrm>
            <a:off x="3124080" y="5334120"/>
            <a:ext cx="2113200" cy="134136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pic>
        <p:nvPicPr>
          <p:cNvPr id="154" name="Picture 8" descr="Sjegren 7"/>
          <p:cNvPicPr/>
          <p:nvPr/>
        </p:nvPicPr>
        <p:blipFill>
          <a:blip r:embed="rId2"/>
          <a:stretch/>
        </p:blipFill>
        <p:spPr>
          <a:xfrm>
            <a:off x="457200" y="4648320"/>
            <a:ext cx="2209680" cy="1288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55" name="Picture 9" descr="Sjegren 5"/>
          <p:cNvPicPr/>
          <p:nvPr/>
        </p:nvPicPr>
        <p:blipFill>
          <a:blip r:embed="rId3"/>
          <a:stretch/>
        </p:blipFill>
        <p:spPr>
          <a:xfrm>
            <a:off x="5867280" y="1981080"/>
            <a:ext cx="2286000" cy="22831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56" name="Picture 10" descr="sjogrens gland"/>
          <p:cNvPicPr/>
          <p:nvPr/>
        </p:nvPicPr>
        <p:blipFill>
          <a:blip r:embed="rId4"/>
          <a:stretch/>
        </p:blipFill>
        <p:spPr>
          <a:xfrm>
            <a:off x="5486400" y="4419720"/>
            <a:ext cx="2895480" cy="21747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000"/>
            </a:b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тње у оч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сећај песка и пр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сетљивост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етње у в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ењено лучење с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рални симпто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ањено лучење пљува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тежано формирање залог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тежано гу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оремећај у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често се влаже 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ојава кариј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мене на јези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глад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сјај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обло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присуство кандидо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LA_S_NDROME_DE_SJ_GREN"/>
          <p:cNvPicPr/>
          <p:nvPr/>
        </p:nvPicPr>
        <p:blipFill>
          <a:blip r:embed="rId1"/>
          <a:stretch/>
        </p:blipFill>
        <p:spPr>
          <a:xfrm>
            <a:off x="5029200" y="1676520"/>
            <a:ext cx="3048120" cy="21636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61" name="Picture 6" descr="xerostomia"/>
          <p:cNvPicPr/>
          <p:nvPr/>
        </p:nvPicPr>
        <p:blipFill>
          <a:blip r:embed="rId2"/>
          <a:stretch/>
        </p:blipFill>
        <p:spPr>
          <a:xfrm>
            <a:off x="4191120" y="4572000"/>
            <a:ext cx="4114800" cy="15238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уматоидни арт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aynand-ov </a:t>
            </a:r>
            <a:r>
              <a:rPr b="1" lang="sr-RS" sz="2000" spc="-1" strike="noStrike">
                <a:solidFill>
                  <a:srgbClr val="333399"/>
                </a:solidFill>
                <a:latin typeface="Arial"/>
              </a:rPr>
              <a:t>фено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иреоид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хепатомег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цироза 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кутни панкреа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мене на ЦНС-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34120" y="22860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амн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абораторијск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ал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еукопе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+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реуматоидн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тинуклеар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тител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е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ијало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цинти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биопсиј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малих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пљ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.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уклеар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магнет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резонанц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МР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0720" y="1744560"/>
            <a:ext cx="716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676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кундарни СС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аћен је и општим симптом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Sjegren 8"/>
          <p:cNvPicPr/>
          <p:nvPr/>
        </p:nvPicPr>
        <p:blipFill>
          <a:blip r:embed="rId1"/>
          <a:stretch/>
        </p:blipFill>
        <p:spPr>
          <a:xfrm>
            <a:off x="3429000" y="2971800"/>
            <a:ext cx="2109960" cy="12398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69" name="Picture 9" descr="Sjegren 2"/>
          <p:cNvPicPr/>
          <p:nvPr/>
        </p:nvPicPr>
        <p:blipFill>
          <a:blip r:embed="rId2"/>
          <a:stretch/>
        </p:blipFill>
        <p:spPr>
          <a:xfrm>
            <a:off x="2895480" y="4648320"/>
            <a:ext cx="2438640" cy="1589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0" name="Picture 10" descr="raynauds_phenom"/>
          <p:cNvPicPr/>
          <p:nvPr/>
        </p:nvPicPr>
        <p:blipFill>
          <a:blip r:embed="rId3"/>
          <a:stretch/>
        </p:blipFill>
        <p:spPr>
          <a:xfrm>
            <a:off x="228600" y="4495680"/>
            <a:ext cx="2514600" cy="21639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ФЕРЕНЦИЈАЛН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Xeros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стемска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Miculicz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јал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мптомат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естероид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тиреум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осупрес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ешт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уз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бацива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ралн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игијенс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унгиц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Sjegren 6"/>
          <p:cNvPicPr/>
          <p:nvPr/>
        </p:nvPicPr>
        <p:blipFill>
          <a:blip r:embed="rId1"/>
          <a:stretch/>
        </p:blipFill>
        <p:spPr>
          <a:xfrm>
            <a:off x="3048120" y="1905120"/>
            <a:ext cx="1446120" cy="1523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6" name="Picture 8" descr="Sjegren 7"/>
          <p:cNvPicPr/>
          <p:nvPr/>
        </p:nvPicPr>
        <p:blipFill>
          <a:blip r:embed="rId2"/>
          <a:stretch/>
        </p:blipFill>
        <p:spPr>
          <a:xfrm>
            <a:off x="7086600" y="1776240"/>
            <a:ext cx="1600200" cy="9334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7" name="Picture 9" descr="Sjegren sindrom 1"/>
          <p:cNvPicPr/>
          <p:nvPr/>
        </p:nvPicPr>
        <p:blipFill>
          <a:blip r:embed="rId3"/>
          <a:stretch/>
        </p:blipFill>
        <p:spPr>
          <a:xfrm>
            <a:off x="1981080" y="4572000"/>
            <a:ext cx="2133720" cy="20509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Увећање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Hypertrophia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сценденти сијалоаден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курентни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В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уге инфекције (ТБ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рко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стична фиб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оплаз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ја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пози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лабораторијс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одатн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4724280" y="3290760"/>
            <a:ext cx="333072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Увећање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Hypertrophia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нилате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ронични рекурентни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енигни мезенхимални тум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(хемангиом, фиброзни хистоцитом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4687920" y="1752480"/>
            <a:ext cx="246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илатерал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ХИВ обо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ија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Вартонов т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2438280" y="4651200"/>
            <a:ext cx="22291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cal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пструкција канала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аза пљува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зни ч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жење изводног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бнормалности у грађи изводног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1058760"/>
            <a:ext cx="285768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724280" y="3924360"/>
            <a:ext cx="354348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cal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пструкција канала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Једнострано увећање непосредно или у току об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јчешће изводни канал субмандибуларне п.ж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ндгенол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ијалографија (+Ц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ирур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952880" y="4449600"/>
            <a:ext cx="396252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114800" y="3441600"/>
            <a:ext cx="5029200" cy="335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196920" y="1523880"/>
            <a:ext cx="502272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37339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ри пара велик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ароти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ублингва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убмандибула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ројних малих пљувачних жлезди (700-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16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18288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је мешавина секрета пљувачних жлез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4952880"/>
            <a:ext cx="388620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пецифична тежина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1003-1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Х = 6,2-7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ању алкална, ноћу кис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исела после јела и го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GLANDULAS SALIVARES"/>
          <p:cNvPicPr/>
          <p:nvPr/>
        </p:nvPicPr>
        <p:blipFill>
          <a:blip r:embed="rId1"/>
          <a:stretch/>
        </p:blipFill>
        <p:spPr>
          <a:xfrm>
            <a:off x="4343400" y="1752480"/>
            <a:ext cx="4497480" cy="45529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Мукозне ретенционе ц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coc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R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ви уз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келе – опструкција или руптура канала мале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1"/>
          <a:stretch/>
        </p:blipFill>
        <p:spPr>
          <a:xfrm>
            <a:off x="4800600" y="1523880"/>
            <a:ext cx="4114800" cy="274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6535800" y="4402080"/>
            <a:ext cx="23796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Мукозне ретенционе ц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cocele, R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2209320"/>
            <a:ext cx="44956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Екстравазационе мукок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келе ретенционог типа (рану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перфивијалне (површинске) мукок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перфицијалне – спонт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ирур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1"/>
          <a:stretch/>
        </p:blipFill>
        <p:spPr>
          <a:xfrm>
            <a:off x="5886360" y="4419720"/>
            <a:ext cx="3029040" cy="221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2"/>
          <a:stretch/>
        </p:blipFill>
        <p:spPr>
          <a:xfrm>
            <a:off x="5638680" y="1630440"/>
            <a:ext cx="328320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ијалоз</a:t>
            </a: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a</a:t>
            </a: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Sialoade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шкарци чеш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исрегулација аутономалне инервације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(алкохолизам, ендокр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ести, нутритив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ремећаји, лекови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аротидна најчешће – симетр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еке и бол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ксеростомиј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тризм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темп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иохемијск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специфичне т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кутна асцендент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338720" y="2819520"/>
            <a:ext cx="480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Етиологиј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 радиолошкке терапије главе и 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х гастроинтестиналног хируршког зах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ливарне анома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кутна асцендент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но осетљиво ув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Црвена ко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 експресију- гнојан садр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Лимфаденопатија 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4876920" y="2819520"/>
            <a:ext cx="426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Б према антибио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налг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.дренажа код флукту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имулација сали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дра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ронич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арији 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сле акутн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ијалокалку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4876920" y="2819520"/>
            <a:ext cx="426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онично увећана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лпаторно неосетљ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ма системских зн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Клин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Рендген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уршка</a:t>
            </a: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н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ушке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m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е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Вирус мум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ђ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xacki, ECH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V, CMV, 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5486400" y="2133720"/>
            <a:ext cx="2857680" cy="1657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4419720" y="4373640"/>
            <a:ext cx="396072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н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ушке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m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4419720" y="213372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нкубација 2-3 неде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ожа неизмењ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Грозница, малакса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Екстрасаливарни знаци: инфламација тестиса или оваријума, панкреатитис, менингитис, менингоенцефалитис, губитак сл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еролошка или вирусолошка испитива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Терапиј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: симптом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евенциј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: имунизација де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609480" y="3733920"/>
            <a:ext cx="369432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Дегенеративна обољења пљувачних 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jegren 2"/>
          <p:cNvPicPr/>
          <p:nvPr/>
        </p:nvPicPr>
        <p:blipFill>
          <a:blip r:embed="rId1"/>
          <a:stretch/>
        </p:blipFill>
        <p:spPr>
          <a:xfrm>
            <a:off x="380880" y="3441600"/>
            <a:ext cx="4343400" cy="283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248" name="Picture 7" descr="Sjegren 6"/>
          <p:cNvPicPr/>
          <p:nvPr/>
        </p:nvPicPr>
        <p:blipFill>
          <a:blip r:embed="rId2"/>
          <a:stretch/>
        </p:blipFill>
        <p:spPr>
          <a:xfrm>
            <a:off x="5410080" y="1727280"/>
            <a:ext cx="2970360" cy="3128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ормална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пљувачка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е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елич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енуш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виск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тужног мир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ез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оличина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пљув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је 500-600 мл, 1250 мл и ви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Зависи 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интензитета и трајања стим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валитета 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оба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година стар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пштег здрав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salivary_bioscience_drop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aliva collection Dr"/>
          <p:cNvPicPr/>
          <p:nvPr/>
        </p:nvPicPr>
        <p:blipFill>
          <a:blip r:embed="rId2"/>
          <a:stretch/>
        </p:blipFill>
        <p:spPr>
          <a:xfrm>
            <a:off x="5827680" y="4095720"/>
            <a:ext cx="224964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2767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ргански састој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те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гљени хид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нз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витам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орм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28600" y="16002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аста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99% вода и 1% органски и неоргански састој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istis glandulae salivariae labii inferioris"/>
          <p:cNvPicPr/>
          <p:nvPr/>
        </p:nvPicPr>
        <p:blipFill>
          <a:blip r:embed="rId1"/>
          <a:srcRect l="0" t="20104" r="32500" b="0"/>
          <a:stretch/>
        </p:blipFill>
        <p:spPr>
          <a:xfrm>
            <a:off x="1143000" y="4800600"/>
            <a:ext cx="2587680" cy="1886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67" name="Picture 8" descr="saliva_test_lrg"/>
          <p:cNvPicPr/>
          <p:nvPr/>
        </p:nvPicPr>
        <p:blipFill>
          <a:blip r:embed="rId2"/>
          <a:stretch/>
        </p:blipFill>
        <p:spPr>
          <a:xfrm>
            <a:off x="4114800" y="2666880"/>
            <a:ext cx="4648320" cy="35607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09720" y="18288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еоргански састој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лијум -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атријум -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лцијум -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лоr –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Гвожђе - 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умпор -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Магнезијум -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од -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ром -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акар -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Флуор - F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447920"/>
            <a:ext cx="883908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aliva_secretion_duct"/>
          <p:cNvPicPr/>
          <p:nvPr/>
        </p:nvPicPr>
        <p:blipFill>
          <a:blip r:embed="rId1"/>
          <a:stretch/>
        </p:blipFill>
        <p:spPr>
          <a:xfrm>
            <a:off x="380880" y="2133720"/>
            <a:ext cx="4573800" cy="35892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5334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Бактерицидна у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Улога у ис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Екскреторна у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447920"/>
            <a:ext cx="883908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нтисептично деј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тална цирку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ромена п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спирање усне дуп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елиминација мик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астојци (муцин, лизози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актерицидно деј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уцин - преципитира микро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лизозим - цепа компоненте бактеријског з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псонини - олакшавају фагоцит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ансферин - везује гвож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уклеазе - разарају нуклеинске киселине бактерија и в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нхибини - разлажу опну бак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леукоцити - омогућавају фагоцит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гА - секреторни имуноглоб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85800" y="1600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Baktericidna u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liva_top"/>
          <p:cNvPicPr/>
          <p:nvPr/>
        </p:nvPicPr>
        <p:blipFill>
          <a:blip r:embed="rId1"/>
          <a:stretch/>
        </p:blipFill>
        <p:spPr>
          <a:xfrm>
            <a:off x="685800" y="4191120"/>
            <a:ext cx="3706920" cy="23223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00200"/>
            <a:ext cx="419112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Улога у исх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стварање бол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гут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перцепцију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mucha-sed"/>
          <p:cNvPicPr/>
          <p:nvPr/>
        </p:nvPicPr>
        <p:blipFill>
          <a:blip r:embed="rId1"/>
          <a:stretch/>
        </p:blipFill>
        <p:spPr>
          <a:xfrm>
            <a:off x="457200" y="3505320"/>
            <a:ext cx="4876920" cy="32511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84" name="Picture 6" descr="Saliva-Shows-Stress-Levels-on-Kids-2"/>
          <p:cNvPicPr/>
          <p:nvPr/>
        </p:nvPicPr>
        <p:blipFill>
          <a:blip r:embed="rId2"/>
          <a:stretch/>
        </p:blipFill>
        <p:spPr>
          <a:xfrm>
            <a:off x="5715000" y="1905120"/>
            <a:ext cx="2743200" cy="27432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8:53:44Z</dcterms:created>
  <dc:creator>Pejca</dc:creator>
  <dc:description/>
  <dc:language>en-US</dc:language>
  <cp:lastModifiedBy>obradovic</cp:lastModifiedBy>
  <dcterms:modified xsi:type="dcterms:W3CDTF">2017-09-03T12:59:13Z</dcterms:modified>
  <cp:revision>80</cp:revision>
  <dc:subject/>
  <dc:title>Slide 1</dc:title>
</cp:coreProperties>
</file>